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272-D797-4881-80DE-D163B9B4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E50-68F8-4804-B9C0-E98370AF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494-424B-4A48-AFC6-C93CE429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E08-22B9-4637-8824-FB08718A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45AC-802E-470A-96F0-2A2006BE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C4E8-0D03-4894-97C3-877512F1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7AA0-A44F-44AC-81AB-CADD416F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CD2B-6567-4260-820A-3D07DCFC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EB40-4210-4D17-96AC-9C5EAAC9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A106-FE7F-4FAE-8831-738ADBF5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906B-7C32-40AE-B473-9188CC9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05C-AD6C-439A-A360-0DA90FA6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6BF7-244B-4771-9383-8B1B484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099E-18AF-41B9-808C-99324680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1A1C-FB4C-455F-9C11-2EFD2CBF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40FF-AA3B-41F7-B779-1B027CF0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4AAE-7EF8-4973-93EC-4B7B8C08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65A-3402-4EF6-915F-BED9EC1A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FE7-92C0-45C8-B60E-75895B82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554-B363-40BE-8141-855FA0FB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E9C-839F-48A9-98C8-E85BF69B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760-6325-42CB-AD95-75A173D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ABA-76BF-4F1B-A965-9190467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E5B-78B9-4545-A13A-6C01796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A4E-B0C1-4238-BEA8-771FD25582B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F8BB-1690-485F-A2C1-C7305DFC978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ted States in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4.1:  Mobilizing the Home Fro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wins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 change from cars to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ed from 244 to 41 days Wa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duction Board:  Responsible for producing war products 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military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draft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segregated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13T20:30:19Z</dcterms:modified>
  <cp:revision>6</cp:revision>
  <dc:subject/>
  <dc:title>PowerPoint Presentation</dc:title>
</cp:coreProperties>
</file>